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398-20E7-4A09-AEAD-24504C26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758-515F-4575-A097-A100DEFE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019-FFE3-4CC3-9ACC-B8CB20DF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986-AB7E-4888-B365-3C223264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401B-886E-480A-AB46-D14169B6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1C8B-8254-4CE6-AC43-D0D40343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C8F6-81D5-424D-9802-271BCE85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220C-9BD0-4056-BD56-76A4D367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6661-2A97-485B-8B78-7BA596CA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0856-072F-4380-A529-3EF2C6B2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6E61-D13B-4832-850E-EA0612A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E8D-C490-4C3D-AA7A-76BC0C86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557-414E-41BD-B3B7-BE4296EA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B878-493E-4622-A235-FDCCE8B5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5D68-E259-40C5-8C51-54D845EC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1D1D-B757-4A61-8790-0D90FAD9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D544-5FD5-41DF-AF2F-000AF01E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1D5-5B1B-425F-B5B5-C02C3F87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F64-7BB8-448C-8792-439CD1FD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114-B233-4125-9A4C-0554AF23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B5E-4D63-481E-AC43-33B307DD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208-621A-4CB0-90EA-72DDE79C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6D7-C4AE-4025-BE12-21874865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D35-2399-4D04-BB27-B026C404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F036-821C-45AB-BF16-0A7D4D72A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83D4-038B-4EB0-84F7-79B85501D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iverforksimports.com/item/KRS269A_stuart_chippendale_arm_chair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iverforksimports.com/item/KRS216_heavy_carved_chippendale_stoo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eenet.buffalo.edu/bah/f/fdesigners/chipp/mirr/source/1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chicknoski.com/pages/15_big.htm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pacify.com/ShowProduct.asp?dept_id=194&amp;parent_id=512&amp;pf_id=VitMini.053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spacify.com/ShowProduct.asp?dept_id=141&amp;parent_id=10&amp;pf_id=171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llectorcafe.com/" TargetMode="External"/><Relationship Id="rId2" Type="http://schemas.openxmlformats.org/officeDocument/2006/relationships/hyperlink" Target="http://www.harewood.org/chippendale" TargetMode="External"/><Relationship Id="rId3" Type="http://schemas.openxmlformats.org/officeDocument/2006/relationships/hyperlink" Target="http://www.queenanne-colonial-windsorchairs.com/" TargetMode="External"/><Relationship Id="rId4" Type="http://schemas.openxmlformats.org/officeDocument/2006/relationships/hyperlink" Target="http://www.ah.bfn.org/" TargetMode="External"/><Relationship Id="rId5" Type="http://schemas.openxmlformats.org/officeDocument/2006/relationships/hyperlink" Target="http://www.designmuseum./org/design/marcel-breuer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urniture Styles 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ing 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47242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omas Chippend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binet maker Thomas Chippendale, published his furniture designs in a book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"The Gentleman and Cabinet Maker's Direct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" in 1754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hippendale style can be classified into three types: French influence, Chinese influence, and Gothic influ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United States, the Chippendale style was a more elaborate development of the Queen Anne style with cabriole legs and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claw and ball fo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 well known piece of Chippendale furniture is the camelback sof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ir with claw-ball foot and intricate carved bac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 s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STUART CHIPPENDALE ARM CH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276720"/>
            <a:ext cx="2438280" cy="2590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HEAVY CARVED CHIPPENDALE STO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358128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w and ball leg/fo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305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638680" y="2971800"/>
            <a:ext cx="1762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ppendale had many ornate and elaborately carved pie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358128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IMAGE rdcat_6-8-9911.jpg"/>
          <p:cNvPicPr/>
          <p:nvPr/>
        </p:nvPicPr>
        <p:blipFill>
          <a:blip r:embed="rId3"/>
          <a:stretch/>
        </p:blipFill>
        <p:spPr>
          <a:xfrm>
            <a:off x="4648320" y="3200400"/>
            <a:ext cx="3276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ter years showed the style with straight legs and a Chinese 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IMAGE rdcat_6-8-9925.jpg"/>
          <p:cNvPicPr/>
          <p:nvPr/>
        </p:nvPicPr>
        <p:blipFill>
          <a:blip r:embed="rId1"/>
          <a:stretch/>
        </p:blipFill>
        <p:spPr>
          <a:xfrm>
            <a:off x="1447920" y="3657600"/>
            <a:ext cx="2104920" cy="2028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mel-back sof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581360" cy="2705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3352680"/>
            <a:ext cx="2819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cel Breuer (Bauhaus)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of German designers in early 190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ilosophy was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“Form follows function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eaning that furniture should be designed for the purpose intend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arcel Breu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signs became known as International Style and continue to be produced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niture used Chrome-plated tubing f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ats and backs were made of canvas, wood, cane, or lea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uer’s de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ssily chair (1925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sca ch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928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20040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Cesca Chair"/>
          <p:cNvPicPr/>
          <p:nvPr/>
        </p:nvPicPr>
        <p:blipFill>
          <a:blip r:embed="rId3"/>
          <a:stretch/>
        </p:blipFill>
        <p:spPr>
          <a:xfrm>
            <a:off x="5257800" y="3809880"/>
            <a:ext cx="2895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urniture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be legally classified as an antique the furniture piece needs to be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0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ears 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clectic style is mixing different furniture styles from different time peri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igns cont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uminum chaise, 1935-36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Aluminium chaise longue, 1935-36&#13;&#10;Marcel Breuer&#13;&#10;© P. Harholdt"/>
          <p:cNvPicPr/>
          <p:nvPr/>
        </p:nvPicPr>
        <p:blipFill>
          <a:blip r:embed="rId1"/>
          <a:stretch/>
        </p:blipFill>
        <p:spPr>
          <a:xfrm>
            <a:off x="685800" y="2362320"/>
            <a:ext cx="2590920" cy="17888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2438280"/>
            <a:ext cx="2361960" cy="2971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Dining Table, 1936&#13;&#10;Marcel Breuer&#13;&#10;&#13;&#10;"/>
          <p:cNvPicPr/>
          <p:nvPr/>
        </p:nvPicPr>
        <p:blipFill>
          <a:blip r:embed="rId4"/>
          <a:stretch/>
        </p:blipFill>
        <p:spPr>
          <a:xfrm>
            <a:off x="990720" y="4419720"/>
            <a:ext cx="213336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ank Lloyd Wrigh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d the </a:t>
            </a: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ORGAN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tyle. Designed to complement natural surrou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ieved that furniture should fit easily and naturally into the ho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rniture was created specifically for each h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rniture was geometric shapes and           flat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467480" y="4419720"/>
            <a:ext cx="14288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ight’s Furni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Dana-Thomas Extension Table"/>
          <p:cNvPicPr/>
          <p:nvPr/>
        </p:nvPicPr>
        <p:blipFill>
          <a:blip r:embed="rId1"/>
          <a:stretch/>
        </p:blipFill>
        <p:spPr>
          <a:xfrm>
            <a:off x="609480" y="1752480"/>
            <a:ext cx="2971800" cy="2040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Dana-Thomas Large Arm and Side Chair"/>
          <p:cNvPicPr/>
          <p:nvPr/>
        </p:nvPicPr>
        <p:blipFill>
          <a:blip r:embed="rId2"/>
          <a:stretch/>
        </p:blipFill>
        <p:spPr>
          <a:xfrm>
            <a:off x="5257800" y="2133720"/>
            <a:ext cx="2733840" cy="2314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The Barrel Chair by Frank Lloyd Wright"/>
          <p:cNvPicPr/>
          <p:nvPr/>
        </p:nvPicPr>
        <p:blipFill>
          <a:blip r:embed="rId3"/>
          <a:stretch/>
        </p:blipFill>
        <p:spPr>
          <a:xfrm>
            <a:off x="3276720" y="3962520"/>
            <a:ext cx="162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600200" cy="4647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1676520" cy="37720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2809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lling Water  193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general.jpg (94774 bytes)"/>
          <p:cNvPicPr/>
          <p:nvPr/>
        </p:nvPicPr>
        <p:blipFill>
          <a:blip r:embed="rId1"/>
          <a:stretch/>
        </p:blipFill>
        <p:spPr>
          <a:xfrm>
            <a:off x="2666880" y="2514600"/>
            <a:ext cx="409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ousing Decis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ages 332-3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ousing and Interio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ages 576-5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collectorcaf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harewood.org/chippend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queenanne-colonial-windsorchair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www.ah.bfn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designmuseum./org/design/marcel-breu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franklloydwrigh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andstead.com/images/falling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right ©2007, ABCD, All rights reser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Queen An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d after Queen Anne of England who reigned from 1702-1714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characterized by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abrio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eg: a curved leg with out-curved knee and incurved ankle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ot may be a club, a claw-and-ball, a paw or scroll, and there may be a carved ornament on the knee such as the scallop shell or the lion mo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abriole Le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Cabriole Legged Table"/>
          <p:cNvPicPr/>
          <p:nvPr/>
        </p:nvPicPr>
        <p:blipFill>
          <a:blip r:embed="rId1"/>
          <a:stretch/>
        </p:blipFill>
        <p:spPr>
          <a:xfrm>
            <a:off x="1295280" y="2971800"/>
            <a:ext cx="3124440" cy="2706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Queen Anne Highboy"/>
          <p:cNvPicPr/>
          <p:nvPr/>
        </p:nvPicPr>
        <p:blipFill>
          <a:blip r:embed="rId2"/>
          <a:stretch/>
        </p:blipFill>
        <p:spPr>
          <a:xfrm>
            <a:off x="5181480" y="2590920"/>
            <a:ext cx="2971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apann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as a popular varnish used that gave the surface of the furniture a glossy black or any other color fin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2035080" cy="274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505320" y="361008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4667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popular chair styles copied today that were 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hai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upholstere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ind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hai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non-upholstere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at back Chai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152.jpg (6635 bytes)"/>
          <p:cNvPicPr/>
          <p:nvPr/>
        </p:nvPicPr>
        <p:blipFill>
          <a:blip r:embed="rId1"/>
          <a:stretch/>
        </p:blipFill>
        <p:spPr>
          <a:xfrm>
            <a:off x="1143000" y="2895480"/>
            <a:ext cx="3124080" cy="2438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158A.gif (23774 bytes)"/>
          <p:cNvPicPr/>
          <p:nvPr/>
        </p:nvPicPr>
        <p:blipFill>
          <a:blip r:embed="rId2"/>
          <a:stretch/>
        </p:blipFill>
        <p:spPr>
          <a:xfrm>
            <a:off x="5638680" y="2590920"/>
            <a:ext cx="21528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gback Cha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Queen Anne Chair"/>
          <p:cNvPicPr/>
          <p:nvPr/>
        </p:nvPicPr>
        <p:blipFill>
          <a:blip r:embed="rId1"/>
          <a:stretch/>
        </p:blipFill>
        <p:spPr>
          <a:xfrm>
            <a:off x="6858000" y="2133720"/>
            <a:ext cx="1743120" cy="2752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1438200" cy="2485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286000" y="2362320"/>
            <a:ext cx="149544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133720" y="4572000"/>
            <a:ext cx="15429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sor Chair with sla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057400" cy="2819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indsor chair"/>
          <p:cNvPicPr/>
          <p:nvPr/>
        </p:nvPicPr>
        <p:blipFill>
          <a:blip r:embed="rId2"/>
          <a:stretch/>
        </p:blipFill>
        <p:spPr>
          <a:xfrm>
            <a:off x="3200400" y="2590920"/>
            <a:ext cx="2152800" cy="3257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Fan-Back Windsor Side Chair"/>
          <p:cNvPicPr/>
          <p:nvPr/>
        </p:nvPicPr>
        <p:blipFill>
          <a:blip r:embed="rId3"/>
          <a:stretch/>
        </p:blipFill>
        <p:spPr>
          <a:xfrm>
            <a:off x="6629400" y="2514600"/>
            <a:ext cx="21337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7:07:17Z</dcterms:created>
  <dc:creator>s.brooks</dc:creator>
  <dc:description/>
  <dc:language>en-US</dc:language>
  <cp:lastModifiedBy>s.brooks</cp:lastModifiedBy>
  <dcterms:modified xsi:type="dcterms:W3CDTF">2009-03-17T17:39:24Z</dcterms:modified>
  <cp:revision>25</cp:revision>
  <dc:subject/>
  <dc:title>Furniture Styles  </dc:title>
</cp:coreProperties>
</file>